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692B-6B11-4215-BF3A-C59D7189432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74D9-F835-44F4-B073-43B7AEA5E1A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ttp://www.youtube.com/watch?v=m55kgyApY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9EF1-CD49-4C9B-AC6E-793C6F2FB58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96E4-1328-4D21-985B-727E99D2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21C-934E-48AD-829F-F5DC59FC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D6F-DFCB-4015-A2A5-64DE3B71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83B-A18F-47C8-AF35-BBEEB723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1DE-0221-4656-B343-198FD738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4F9-E4D7-4E71-B6DD-DF003101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D50-EB1C-4ECF-B696-F81B5CF7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92E5-8CB3-494D-9B1B-59E57C57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435-BF87-492A-A276-A4A4F370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319-6919-47E4-89C6-D1FD44C4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7CD-B554-4E19-A42E-0D5AC230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386-48CE-46DE-8530-2C59515B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DD74-787D-4581-B9D6-256530BA79A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 +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trength of an acid or base is measured with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3897000" y="215280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221200" y="35812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3"/>
          <p:cNvCxnSpPr/>
          <p:nvPr/>
        </p:nvCxnSpPr>
        <p:spPr>
          <a:xfrm flipV="1">
            <a:off x="2796840" y="3047400"/>
            <a:ext cx="1021320" cy="68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5" name="TextBox 9"/>
          <p:cNvSpPr/>
          <p:nvPr/>
        </p:nvSpPr>
        <p:spPr>
          <a:xfrm>
            <a:off x="5572080" y="358128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10"/>
          <p:cNvCxnSpPr/>
          <p:nvPr/>
        </p:nvCxnSpPr>
        <p:spPr>
          <a:xfrm flipH="1" flipV="1">
            <a:off x="5172840" y="3047400"/>
            <a:ext cx="583560" cy="533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TextBox 15"/>
          <p:cNvSpPr/>
          <p:nvPr/>
        </p:nvSpPr>
        <p:spPr>
          <a:xfrm>
            <a:off x="2536920" y="5462640"/>
            <a:ext cx="39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ulating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935640" y="358128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arithm with bas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3"/>
          <p:cNvCxnSpPr/>
          <p:nvPr/>
        </p:nvCxnSpPr>
        <p:spPr>
          <a:xfrm flipV="1">
            <a:off x="2797200" y="2742840"/>
            <a:ext cx="1775520" cy="99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2" name="TextBox 9"/>
          <p:cNvSpPr/>
          <p:nvPr/>
        </p:nvSpPr>
        <p:spPr>
          <a:xfrm>
            <a:off x="5562720" y="35812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ntration of hydrogen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10"/>
          <p:cNvCxnSpPr/>
          <p:nvPr/>
        </p:nvCxnSpPr>
        <p:spPr>
          <a:xfrm flipH="1" flipV="1">
            <a:off x="6019560" y="2828160"/>
            <a:ext cx="583200" cy="731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TextBox 13"/>
          <p:cNvSpPr/>
          <p:nvPr/>
        </p:nvSpPr>
        <p:spPr>
          <a:xfrm>
            <a:off x="2277360" y="1905120"/>
            <a:ext cx="44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 = -log [H+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 Sca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acids_and_bases_phscale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3057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 25°C: From 0 to 14, with 7 being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3131280" y="4940280"/>
            <a:ext cx="28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 &lt; 7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ci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7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pH &gt; 7 </a:t>
            </a:r>
            <a:r>
              <a:rPr b="0" lang="en-US" sz="2800" spc="-1" strike="noStrike">
                <a:solidFill>
                  <a:srgbClr val="26267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 ba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 Sca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fg.cns.utexas.edu/fg/course_notebook_chapter_seven_files/PH_scale.png"/>
          <p:cNvPicPr/>
          <p:nvPr/>
        </p:nvPicPr>
        <p:blipFill>
          <a:blip r:embed="rId1"/>
          <a:stretch/>
        </p:blipFill>
        <p:spPr>
          <a:xfrm>
            <a:off x="1295280" y="762120"/>
            <a:ext cx="647712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 Sca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84240" y="4416480"/>
            <a:ext cx="905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Every pH level is 10x more concentrated than the level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.e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 4 is 10x more concentrated than pH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pH 3 is 100x more concentrated than pH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dirtsecrets.files.wordpress.com/2009/02/ph_scale2.png?w=600"/>
          <p:cNvPicPr/>
          <p:nvPr/>
        </p:nvPicPr>
        <p:blipFill>
          <a:blip r:embed="rId1"/>
          <a:srcRect l="0" t="14084" r="0" b="0"/>
          <a:stretch/>
        </p:blipFill>
        <p:spPr>
          <a:xfrm>
            <a:off x="1143000" y="914400"/>
            <a:ext cx="69343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981080" y="0"/>
            <a:ext cx="5011920" cy="6799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228600" y="-228960"/>
            <a:ext cx="9677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UTRALIZATION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Acids can neutralize bases, so adding an acid to a base can neutralize their caustic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175248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HCl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+ NaOH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l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+ NaCl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br>
              <a:rPr sz="2800"/>
            </a:br>
            <a:br>
              <a:rPr sz="2800"/>
            </a:b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Hydrochloric acid + sodium hydroxid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water + salt (sodium chlor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1015411"/>
          <p:cNvPicPr/>
          <p:nvPr/>
        </p:nvPicPr>
        <p:blipFill>
          <a:blip r:embed="rId1"/>
          <a:stretch/>
        </p:blipFill>
        <p:spPr>
          <a:xfrm>
            <a:off x="304920" y="3581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17-water_bottle"/>
          <p:cNvPicPr/>
          <p:nvPr/>
        </p:nvPicPr>
        <p:blipFill>
          <a:blip r:embed="rId2"/>
          <a:stretch/>
        </p:blipFill>
        <p:spPr>
          <a:xfrm>
            <a:off x="4419720" y="3276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1"/>
          <p:cNvSpPr/>
          <p:nvPr/>
        </p:nvSpPr>
        <p:spPr>
          <a:xfrm>
            <a:off x="3581280" y="43434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6324480" y="4495680"/>
            <a:ext cx="685800" cy="685800"/>
          </a:xfrm>
          <a:prstGeom prst="plus">
            <a:avLst>
              <a:gd name="adj" fmla="val 41319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Salt%2520Shaker"/>
          <p:cNvPicPr/>
          <p:nvPr/>
        </p:nvPicPr>
        <p:blipFill>
          <a:blip r:embed="rId3"/>
          <a:stretch/>
        </p:blipFill>
        <p:spPr>
          <a:xfrm>
            <a:off x="7143840" y="350532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7"/>
          <p:cNvSpPr/>
          <p:nvPr/>
        </p:nvSpPr>
        <p:spPr>
          <a:xfrm>
            <a:off x="-76320" y="55627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Corro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caustic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46eba"/>
                </a:solidFill>
                <a:latin typeface="Arial"/>
              </a:rPr>
              <a:t>non-corro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946eba"/>
                </a:solidFill>
                <a:latin typeface="Arial"/>
              </a:rPr>
              <a:t>non-corro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80880" y="-381240"/>
            <a:ext cx="9982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EUTRALIZATION REAC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Antacid-L478"/>
          <p:cNvPicPr/>
          <p:nvPr/>
        </p:nvPicPr>
        <p:blipFill>
          <a:blip r:embed="rId1"/>
          <a:stretch/>
        </p:blipFill>
        <p:spPr>
          <a:xfrm>
            <a:off x="2390760" y="1981080"/>
            <a:ext cx="4619520" cy="3079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0" y="8380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Bases can neutralize acids, so adding a base to an acid can eliminate their corrosiveness</a:t>
            </a:r>
            <a:br>
              <a:rPr sz="2400"/>
            </a:b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Example: Antacids to neutralize stomach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2HCl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Ca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CaCl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 </a:t>
            </a:r>
            <a:r>
              <a:rPr b="1" lang="en-US" sz="28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(l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(g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 flipH="1">
            <a:off x="3123720" y="5715000"/>
            <a:ext cx="3886200" cy="304920"/>
          </a:xfrm>
          <a:prstGeom prst="line">
            <a:avLst/>
          </a:prstGeom>
          <a:ln w="57240">
            <a:solidFill>
              <a:srgbClr val="5d9d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make-red-cabbage-acidbase-indicator-200X200"/>
          <p:cNvPicPr/>
          <p:nvPr/>
        </p:nvPicPr>
        <p:blipFill>
          <a:blip r:embed="rId1"/>
          <a:stretch/>
        </p:blipFill>
        <p:spPr>
          <a:xfrm>
            <a:off x="457200" y="205740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nc0692"/>
          <p:cNvPicPr/>
          <p:nvPr/>
        </p:nvPicPr>
        <p:blipFill>
          <a:blip r:embed="rId2"/>
          <a:stretch/>
        </p:blipFill>
        <p:spPr>
          <a:xfrm>
            <a:off x="4672080" y="2286000"/>
            <a:ext cx="4471920" cy="3763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"/>
          <p:cNvSpPr/>
          <p:nvPr/>
        </p:nvSpPr>
        <p:spPr>
          <a:xfrm>
            <a:off x="-380880" y="-98280"/>
            <a:ext cx="9982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-BASE INDIC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dicators change color depending on whether a substance is acidic or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2"/>
          <p:cNvSpPr/>
          <p:nvPr/>
        </p:nvSpPr>
        <p:spPr>
          <a:xfrm>
            <a:off x="-380880" y="-98280"/>
            <a:ext cx="9982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-BASE INDIC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fferent indicators change colour at specific pH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www.bcscience10.com/images/0_quiz-5.1-05.gif"/>
          <p:cNvPicPr/>
          <p:nvPr/>
        </p:nvPicPr>
        <p:blipFill>
          <a:blip r:embed="rId1"/>
          <a:stretch/>
        </p:blipFill>
        <p:spPr>
          <a:xfrm>
            <a:off x="0" y="1979640"/>
            <a:ext cx="914400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228600" y="-228960"/>
            <a:ext cx="9677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IDS TURN BLUE LITMUS PAPER 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0666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6eba"/>
                </a:solidFill>
                <a:latin typeface="Arial"/>
              </a:rPr>
              <a:t>Blue litmus paper is an indicator and turn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 when it touches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litmus-acid"/>
          <p:cNvPicPr/>
          <p:nvPr/>
        </p:nvPicPr>
        <p:blipFill>
          <a:blip r:embed="rId1"/>
          <a:stretch/>
        </p:blipFill>
        <p:spPr>
          <a:xfrm>
            <a:off x="2438280" y="2057400"/>
            <a:ext cx="465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80880" y="-174960"/>
            <a:ext cx="9982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BASES TURN RED LITMUS PAPER BLU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0" y="10666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7690"/>
                </a:solidFill>
                <a:latin typeface="Arial"/>
              </a:rPr>
              <a:t>Red litmus paper is an indicator and turn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blue when it touches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gcsechem_59_b"/>
          <p:cNvPicPr/>
          <p:nvPr/>
        </p:nvPicPr>
        <p:blipFill>
          <a:blip r:embed="rId1"/>
          <a:stretch/>
        </p:blipFill>
        <p:spPr>
          <a:xfrm>
            <a:off x="2895480" y="2057400"/>
            <a:ext cx="36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80880" y="-174960"/>
            <a:ext cx="9982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BASES TURN PHENOLPHTALEIN </a:t>
            </a:r>
            <a:r>
              <a:rPr b="0" lang="en-US" sz="3500" spc="-1" strike="noStrike">
                <a:solidFill>
                  <a:srgbClr val="ff0066"/>
                </a:solidFill>
                <a:latin typeface="Arial"/>
              </a:rPr>
              <a:t>PIN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-76320" y="990720"/>
            <a:ext cx="9296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enolphtalein is colourless, and </a:t>
            </a:r>
            <a:r>
              <a:rPr b="1" lang="en-US" sz="2800" spc="-1" strike="noStrike">
                <a:solidFill>
                  <a:srgbClr val="b27690"/>
                </a:solidFill>
                <a:latin typeface="Arial"/>
              </a:rPr>
              <a:t>turns pink in bases (above pH 8.2) while remaining colourless in aci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titrations.info/img/phenolphthalein.jpg"/>
          <p:cNvPicPr/>
          <p:nvPr/>
        </p:nvPicPr>
        <p:blipFill>
          <a:blip r:embed="rId1"/>
          <a:stretch/>
        </p:blipFill>
        <p:spPr>
          <a:xfrm>
            <a:off x="838080" y="198108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25:23Z</dcterms:created>
  <dc:creator>User</dc:creator>
  <dc:description/>
  <dc:language>en-US</dc:language>
  <cp:lastModifiedBy>rubina khan</cp:lastModifiedBy>
  <dcterms:modified xsi:type="dcterms:W3CDTF">2016-09-30T16:31:53Z</dcterms:modified>
  <cp:revision>95</cp:revision>
  <dc:subject/>
  <dc:title>ACIDS + BASES</dc:title>
</cp:coreProperties>
</file>